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289C-8DD1-42CC-9601-81A5423D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4FC9-1953-4A5D-BA2A-5D255F4D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E11B9-1DC4-488C-9222-896DCADC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F6324-14D2-4C26-BD68-2470BF20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6C554-6A4A-423A-A8E5-9D13CC3B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FA607-CA8B-405A-8EAE-D09A6C3F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89D65-0E4E-4E54-826C-5787600E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52B70-81BA-4E19-AF9C-A1DEF8F6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DB508-3069-48CA-A4A4-970221CF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3C4F5-F618-4752-9B97-4E1CC979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82D13-71CC-476C-B6CC-08E8AB2C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5B838-6CCC-4118-B8D1-991A36E6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75D-FF29-4CF2-8EBE-8A3C14D1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6CD74-ADB7-4B32-94E3-23721443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C1178-5AB5-40FE-BF53-53AE4815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0E4F5-8681-40EB-B440-93C0A0B3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61573-8C80-41F3-BD19-FACD0B17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C9B32-2F29-49D0-87B0-B4D69805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40857-7079-4F42-B028-78ADFD48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2E7C0-79C8-41B7-AB00-D7856C96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80A3F-4E31-4BF8-A82E-7384B020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E7206-3C59-46E3-B9E6-96DEA7A4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05F2F-4A28-49F5-8456-F3ED2D9C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AF7-B0A0-4B0B-8635-BE95D52A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8F5BC-BEBD-4E46-A986-A7438C91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44C3-79D0-43AA-938E-6D0E96A9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E515-A7E5-409E-899A-31B4DD30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DC65-DDD5-4457-879B-17DA6208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5D0A-DAC3-477F-B867-D2441708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2AA5-966B-4DEB-8A99-102EF5AF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CE92-2CB1-40AD-B7B1-141E1E06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CA51-FA51-4A21-A6B9-9B1DFFD6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AC0-2B3F-42A0-A641-5AC6B5A7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E86C-A3C4-4E0A-983F-6E5E7D8B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35CC-22F0-4340-B639-EB831913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B216-81A4-417F-9F30-34F50D7D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7888-563D-4D1D-80A2-2272CFF2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3108-EF87-401F-BE26-AEF63A99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54EB7-BE33-4375-A931-0CAB379F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340A0-7960-46A5-9958-5553DC86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8C7E3-A032-4F48-98E0-589C58F7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2362B-02A4-4F14-B5F8-14713719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4281A-B8CD-4F89-905D-CB183195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C53-6F08-4069-B808-D21F662A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0F29D-AD52-4FDD-BE67-A56EE54B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4FF5F-6CF3-43C3-A788-FF43B0A4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D0242-095D-41C1-B840-2BB98020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08083-B947-4EB8-81DB-96DD0621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5589D-250A-48A7-A49A-F269075B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55D39-52AE-4F6E-AC6F-A4DA083A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926BB-3437-48B4-A1DE-042CA9A1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BE516-F368-46ED-95B4-566842BC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0DFDD-B963-480D-922A-688449AC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D6C59-6D26-409C-885A-E3762708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E6D9-05EF-41B2-8087-9BE6E3E9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5C598-D96A-48D7-ABB1-B44DAFD0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FF2B2-50C3-4BF9-9E81-2131924F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FD322-E17C-4A7E-B86A-3EB53B45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094F7-36D2-4F42-9796-62C7DB76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8FA50-E890-416D-819F-D1AE5155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63EEE-C02B-46CA-8A1C-60161F52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977DB-0E6C-4F50-95E3-F46C3DAF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0FE34-283C-40FE-B20E-11DD8472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14DAE-E298-47E7-9FDA-C90EE64A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33FAB-F28F-41EA-8D3A-81B5E869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94F-AE0C-40C8-89B4-71C3817A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32384-BF15-4E32-AF51-491BA6F3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69BD2-032F-428B-83AD-F7EE8A21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ED5F0-1D77-48A2-8661-8C06E63F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928C9-61EF-4A18-AE6B-3A4CA6E9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280B7-960F-473B-B83D-12497D05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C51CC-4BDE-40A9-9B84-A4AE5D51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296C7-3399-4357-A8CF-A0ED1154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C4062-F7CF-44C2-BF3E-DBE03DC8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00C10-1AC3-4DA4-AE57-CB1D6CE2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91EC9-E52C-48A7-AC1E-DB291356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8070-2F06-40A6-BC4B-A8AB87B2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37788-957C-4737-83C4-FED2DF97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EEA17-2442-459A-AE9D-46B99A0F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3E488-C508-451C-8C68-57E144F0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9E1FA-812A-45FC-A12B-C34D7B9F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D0240-F32A-44F9-94E6-BE339F5A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39A03-78A7-423A-AB5D-CCEE709C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0592D-BBA8-4D56-A995-6D3D98CF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87ECC-B448-4B10-B97E-61174218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3ADE7-35EA-463A-9206-9BD7E70B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4AB7D-82CB-4071-A1AA-39EB1105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15CB-3CD7-4B2F-AF25-D277C815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BD285-B16F-4D66-94FF-53827DD8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A60EF-1A3B-474F-8DF5-2FE5837B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00EF0-5940-461D-BCA7-63F6187E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4395D-4430-4765-AFC3-4094EAD7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FCFE8-BD67-4416-B150-A1F69C14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16389-8C56-4625-A758-3EB42EBB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B0A65-4235-4F8F-BE05-929986FC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90735-7465-43A1-9B3B-640CCCFB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30DFF-61A3-4517-B19C-0797F00D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4465D-E1ED-4EBF-B573-CA6F34A0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844-0F1D-49D8-8D9A-D074DDD7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5DC81-C86D-4E04-B465-D97275AB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16CEC-78BC-4FDA-B4AC-6CC89852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32747-97CE-4F96-B47C-D213F685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F8754-B82B-4714-A9BD-C88DC95C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86958-2EC8-4319-A25F-E2942090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6BE37-D0E6-4C15-B06D-EDF3EA4B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1D807-5CDA-440F-AB54-0C5A56DF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00FEB-485A-4AB3-A969-A83B06D4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747B5-E60A-4B60-B772-4FF1347E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E04DA-BAA5-479D-BC07-D4729580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81F-5B4E-4320-B33F-561FC9DD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BCF03-C752-4459-AAB6-BFA96D37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7A14B-C6BA-48D3-96C2-53BA4F09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DCE4B-15B0-436A-9883-BE985C45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18981-8E4D-4499-ACB8-15E2B448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F292E-C189-4954-9533-FDC7CEB3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93FF6-E4BF-46D2-BF52-DCAB5190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F16EE-A381-4FF9-AE87-40831501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03CF6-961D-49A7-AB50-04B8C450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6D27D-67DB-46C7-9FA2-D11E3772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9B547-3431-49C5-8681-73628828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49B9-8462-48A8-A972-C98CDD21CE7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D910-8C47-4470-875C-DFAA6CB2204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8E96-85C5-4058-A335-76A56454943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C0D4-36F4-4183-95C6-0A3F07F8B66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4CBB-BB29-4C26-9985-794FA035C2F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B5AD-634B-4F34-8A38-4F908EE9DAB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F3CC-A366-4296-886D-CE03F56FB67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D416-027C-4C5D-8F5A-1442E82D627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D338-2E08-4C79-9D79-9DE059A8F06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948B-E7BA-4634-B5FA-ED56558B319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7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어디에 가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디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를 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말을 공부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슬리퍼리록 대학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사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청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다나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디에 가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시내에 갑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다나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시내에서 무엇을 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친구를 만납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시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ownt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친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fri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만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ere; inte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디에 갑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디에서 일하십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병원이 어디에 있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o ~, at ~; postposition denoting time or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10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시에 학교에 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일요일에도 회사에 갑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내일 미국에 갑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at ~; postposition denoting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교실에서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을 시장에서 샀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여자는 은행에서 일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부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usan (Pusan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병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hospit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우체국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ost offi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학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극장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hea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일하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다방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offee shop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장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청역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he city hall st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은행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식당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하숙집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oarding hou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식사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e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도서관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백화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department sto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과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rui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학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institu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갑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부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 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디에 가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갑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중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병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체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숙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집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사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극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을 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백화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을 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12T14:35:59Z</dcterms:modified>
  <cp:revision>97</cp:revision>
  <dc:subject/>
  <dc:title>KOREAN LANGUAGE</dc:title>
</cp:coreProperties>
</file>